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5E1-99DB-49FC-8DBE-C3D1A3EB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A1D-F741-4A06-8ACE-0C0AE8D0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8BD-F61B-460B-97E3-3EE6B0FB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0D3-265C-43D9-BE48-11CB3336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4E2D-D24B-48CD-BE2E-41C5A3C7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9D03-6CA4-4C71-814A-028FC86B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A832-ECA3-4939-B15D-8D0EBFA4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70BA-1231-44AD-BD56-453AF17C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1B76-5948-4A2E-9428-1898A366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FCCB-ADBA-4FC1-AAB4-057C450D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703D-046A-4117-AFB3-6E240070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7BD-1F43-4B4A-BF67-66B2CFD8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F6B2-940B-4DBD-8FE5-C4C2BAF2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3824-0333-4015-A1B4-10953241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26EB-5748-4571-BF1C-1FD712FE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9410-4991-4A9D-9936-1A336D54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52AE-3D6F-4B05-9389-A5B1B5D5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9C4-61B4-4FC9-91B6-98CD67A3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3C4-7E5B-44BE-B8F7-F7CE51CA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8DB-AB51-48B5-9F0B-63763085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355-EBE6-4BDD-90E8-1834547E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6E6-738B-45DA-A584-1EF973E4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CC3-9926-46D2-BF76-A484986B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A6F-66CE-4974-A6AA-29717179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069D-7121-4319-A6D9-EB3C80A7753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3A69-E14D-492B-B528-7A1803D8633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53040" y="617400"/>
            <a:ext cx="5284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omance morisc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omance de Zulema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l Alhmbra a medianoch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ale gallardo Zulema,[Sulaiman =Salomón]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iego de cólera y celos, si acaso los celos ciega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Bajaba el valiente mor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noche , por ver si en ell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uede con su oscurid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ar lumbre a cierta sospech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que su querida Za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mora  hermosa, discr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lma de su pensamiento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a fe y palabra le quiebr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Tenía celos el moro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l alcaide de Marbell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en Granada residí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orque su calle pase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457720" y="474840"/>
            <a:ext cx="3338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uanto lleva en el vestid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a publicando su pen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quiere ya publicall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lo diga su libre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a marlota, verde oscur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eñal de esperanza muert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una cadena bord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levaba fija esta letra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Mi esperanza cautivé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como se vio suj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udando de su rescat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no a morir en cadena”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l bonete, carmesí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en él una pluma neg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por letra: “Mi alegrí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mpite con mi tristez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aballo rucio rodad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escrito entrambas riendas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27280" y="260280"/>
            <a:ext cx="4032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Ha rodado por mi alm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mi fortuna la rued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el campo del adarg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levaba una calave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un mote en la frente escrit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que dice: “Ya estoy cerc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un borceguí datilad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orado sólo la vuel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dice: “Si vuelta está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ifícil será volvell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Una banderilla azu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una lanza jin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dice la letra: “Celo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hincádsela hasta que muer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eñido un dorado alfanj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orado jaez y espuelas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toca dorada al brazo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es de su Zara la empres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95480" y="333360"/>
            <a:ext cx="38372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legado al sitio y lug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dónde su amada pren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vía, aunque en sus entrañ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tiene morada más cier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o la ventana cerrad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por no volver sin vell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n el cuento de la lanz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io un pequeño golpe en ell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u dama, que descuidada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taba de la novel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or un pequeño postig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e asomó por ver quién er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No le conoció tan prest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tando un rato suspensa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Zulema picó caball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llegándose más cerc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iciéndole: -¡Sol del mund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en los ojos reverbera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673360" y="762120"/>
            <a:ext cx="3522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brid toda la ventan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sterraréis las tinieblas!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lla , que le conoció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e dijo: -Amado Zulem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e nombre es propio vuestr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o luna basta que se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sabéis que a la lun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l sol su lumbre le presta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si acaso tengo algun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a recibo de la vuestr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Zulema le dijo:-¡Ay, Za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uánto vale en el alma me pes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que te cuadre ese nom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luna , que yo sol sea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orque la luna en el cielo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endo el sol en su presenci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no da de sí luz ningun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eñal que de ello le pesa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673720" y="617400"/>
            <a:ext cx="3426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cuando se alegra má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 cuando su sol se ausent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creo que tú lo imit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esto, por darme pena-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espondió Zara, turbada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-¡Qué bien de ver se te ech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eso, y en venir tard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los celos te hacen guerra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secha, Zulema amig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e dolor que te apri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unque escaramuza y paj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eas delante mis puerta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ues soy de peña a sus dueño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uanto para ti de cera-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Zulema algo asegurad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ólo le da por respuesta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744280" y="906480"/>
            <a:ext cx="403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_¡Plegue a Dios que al mucho curs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no se allane la carrera!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n esto se parte el mor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humillado la cabez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n intento de mud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aballo, lanza y librea.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2:34:58Z</dcterms:created>
  <dc:creator> </dc:creator>
  <dc:description/>
  <dc:language>en-US</dc:language>
  <cp:lastModifiedBy> </cp:lastModifiedBy>
  <dcterms:modified xsi:type="dcterms:W3CDTF">2007-10-03T03:33:13Z</dcterms:modified>
  <cp:revision>9</cp:revision>
  <dc:subject/>
  <dc:title>Diapositiva 1</dc:title>
</cp:coreProperties>
</file>